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1" spc="-1" strike="noStrike">
                <a:solidFill>
                  <a:srgbClr val="000000"/>
                </a:solidFill>
                <a:latin typeface="Arial"/>
              </a:defRPr>
            </a:pPr>
            <a:r>
              <a:rPr b="0" sz="1081" spc="-1" strike="noStrike">
                <a:solidFill>
                  <a:srgbClr val="000000"/>
                </a:solidFill>
                <a:latin typeface="Arial"/>
              </a:rPr>
              <a:t>EERM MARÇO MATUTINO</a:t>
            </a:r>
          </a:p>
        </c:rich>
      </c:tx>
      <c:layout>
        <c:manualLayout>
          <c:xMode val="edge"/>
          <c:yMode val="edge"/>
          <c:x val="0.45766854806453"/>
          <c:y val="0.019865067466266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5797101449275"/>
          <c:w val="0.959912892760322"/>
          <c:h val="0.823088455772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8</c:v>
                </c:pt>
                <c:pt idx="3">
                  <c:v>12</c:v>
                </c:pt>
                <c:pt idx="4">
                  <c:v>8</c:v>
                </c:pt>
                <c:pt idx="5">
                  <c:v>2</c:v>
                </c:pt>
                <c:pt idx="6">
                  <c:v>2</c:v>
                </c:pt>
                <c:pt idx="7">
                  <c:v>7</c:v>
                </c:pt>
                <c:pt idx="8">
                  <c:v>2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66037735849057</c:v>
                </c:pt>
                <c:pt idx="1">
                  <c:v>4.90566037735849</c:v>
                </c:pt>
                <c:pt idx="2">
                  <c:v>13.3962264150943</c:v>
                </c:pt>
                <c:pt idx="3">
                  <c:v>12.0754716981132</c:v>
                </c:pt>
                <c:pt idx="4">
                  <c:v>6.9811320754717</c:v>
                </c:pt>
                <c:pt idx="5">
                  <c:v>6.9811320754717</c:v>
                </c:pt>
                <c:pt idx="6">
                  <c:v>4.15094339622642</c:v>
                </c:pt>
                <c:pt idx="7">
                  <c:v>5.47169811320755</c:v>
                </c:pt>
                <c:pt idx="8">
                  <c:v>1.50943396226415</c:v>
                </c:pt>
                <c:pt idx="9">
                  <c:v>1.88679245283019</c:v>
                </c:pt>
                <c:pt idx="10">
                  <c:v>1.88679245283019</c:v>
                </c:pt>
                <c:pt idx="11">
                  <c:v>1.50943396226415</c:v>
                </c:pt>
                <c:pt idx="12">
                  <c:v>0.754716981132075</c:v>
                </c:pt>
                <c:pt idx="13">
                  <c:v>0.754716981132075</c:v>
                </c:pt>
                <c:pt idx="14">
                  <c:v>1.32075471698113</c:v>
                </c:pt>
                <c:pt idx="15">
                  <c:v>0.754716981132075</c:v>
                </c:pt>
              </c:numCache>
            </c:numRef>
          </c:val>
        </c:ser>
        <c:gapWidth val="100"/>
        <c:overlap val="0"/>
        <c:axId val="57016842"/>
        <c:axId val="54419327"/>
      </c:barChart>
      <c:catAx>
        <c:axId val="5701684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19327"/>
        <c:crossesAt val="0"/>
        <c:auto val="1"/>
        <c:lblAlgn val="ctr"/>
        <c:lblOffset val="100"/>
        <c:noMultiLvlLbl val="0"/>
      </c:catAx>
      <c:valAx>
        <c:axId val="54419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1684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EERM ABRIL NOTURNO</a:t>
            </a:r>
          </a:p>
        </c:rich>
      </c:tx>
      <c:layout>
        <c:manualLayout>
          <c:xMode val="edge"/>
          <c:yMode val="edge"/>
          <c:x val="0.403759832896316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4</c:v>
                </c:pt>
                <c:pt idx="3">
                  <c:v>5</c:v>
                </c:pt>
                <c:pt idx="4">
                  <c:v>11</c:v>
                </c:pt>
                <c:pt idx="5">
                  <c:v>4</c:v>
                </c:pt>
                <c:pt idx="6">
                  <c:v>2</c:v>
                </c:pt>
                <c:pt idx="7">
                  <c:v>1</c:v>
                </c:pt>
                <c:pt idx="8">
                  <c:v>4</c:v>
                </c:pt>
                <c:pt idx="9">
                  <c:v>3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91566265060241</c:v>
                </c:pt>
                <c:pt idx="1">
                  <c:v>2.91566265060241</c:v>
                </c:pt>
                <c:pt idx="2">
                  <c:v>10.3373493975904</c:v>
                </c:pt>
                <c:pt idx="3">
                  <c:v>9.5421686746988</c:v>
                </c:pt>
                <c:pt idx="4">
                  <c:v>6.62650602409639</c:v>
                </c:pt>
                <c:pt idx="5">
                  <c:v>6.62650602409639</c:v>
                </c:pt>
                <c:pt idx="6">
                  <c:v>6.62650602409639</c:v>
                </c:pt>
                <c:pt idx="7">
                  <c:v>2.3855421686747</c:v>
                </c:pt>
                <c:pt idx="8">
                  <c:v>4.24096385542169</c:v>
                </c:pt>
                <c:pt idx="9">
                  <c:v>5.03614457831325</c:v>
                </c:pt>
                <c:pt idx="10">
                  <c:v>4.50602409638554</c:v>
                </c:pt>
                <c:pt idx="11">
                  <c:v>2.12048192771084</c:v>
                </c:pt>
                <c:pt idx="12">
                  <c:v>1.32530120481928</c:v>
                </c:pt>
                <c:pt idx="13">
                  <c:v>0.79518072289156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1010896"/>
        <c:axId val="4385494"/>
      </c:barChart>
      <c:catAx>
        <c:axId val="3101089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5494"/>
        <c:crossesAt val="0"/>
        <c:auto val="1"/>
        <c:lblAlgn val="ctr"/>
        <c:lblOffset val="100"/>
        <c:noMultiLvlLbl val="0"/>
      </c:catAx>
      <c:valAx>
        <c:axId val="4385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1089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RM MAIO NOTURNO</a:t>
            </a:r>
          </a:p>
        </c:rich>
      </c:tx>
      <c:layout>
        <c:manualLayout>
          <c:xMode val="edge"/>
          <c:yMode val="edge"/>
          <c:x val="0.40407093018088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0</c:v>
                </c:pt>
                <c:pt idx="3">
                  <c:v>8</c:v>
                </c:pt>
                <c:pt idx="4">
                  <c:v>4</c:v>
                </c:pt>
                <c:pt idx="5">
                  <c:v>0</c:v>
                </c:pt>
                <c:pt idx="6">
                  <c:v>1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98795180722892</c:v>
                </c:pt>
                <c:pt idx="1">
                  <c:v>1.98795180722892</c:v>
                </c:pt>
                <c:pt idx="2">
                  <c:v>7.04819277108434</c:v>
                </c:pt>
                <c:pt idx="3">
                  <c:v>6.50602409638554</c:v>
                </c:pt>
                <c:pt idx="4">
                  <c:v>3.79518072289157</c:v>
                </c:pt>
                <c:pt idx="5">
                  <c:v>4.51807228915663</c:v>
                </c:pt>
                <c:pt idx="6">
                  <c:v>3.79518072289157</c:v>
                </c:pt>
                <c:pt idx="7">
                  <c:v>1.62650602409639</c:v>
                </c:pt>
                <c:pt idx="8">
                  <c:v>2.89156626506024</c:v>
                </c:pt>
                <c:pt idx="9">
                  <c:v>3.43373493975904</c:v>
                </c:pt>
                <c:pt idx="10">
                  <c:v>3.07228915662651</c:v>
                </c:pt>
                <c:pt idx="11">
                  <c:v>1.44578313253012</c:v>
                </c:pt>
                <c:pt idx="12">
                  <c:v>1.62650602409639</c:v>
                </c:pt>
                <c:pt idx="13">
                  <c:v>1.2650602409638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5721214"/>
        <c:axId val="44477947"/>
      </c:barChart>
      <c:catAx>
        <c:axId val="1572121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77947"/>
        <c:crossesAt val="0"/>
        <c:auto val="1"/>
        <c:lblAlgn val="ctr"/>
        <c:lblOffset val="100"/>
        <c:noMultiLvlLbl val="0"/>
      </c:catAx>
      <c:valAx>
        <c:axId val="44477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2121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1" spc="-1" strike="noStrike">
                <a:solidFill>
                  <a:srgbClr val="000000"/>
                </a:solidFill>
                <a:latin typeface="Arial"/>
              </a:defRPr>
            </a:pPr>
            <a:r>
              <a:rPr b="1" sz="1491" spc="-1" strike="noStrike">
                <a:solidFill>
                  <a:srgbClr val="000000"/>
                </a:solidFill>
                <a:latin typeface="Arial"/>
              </a:rPr>
              <a:t>EERM  NOTURNO</a:t>
            </a:r>
          </a:p>
        </c:rich>
      </c:tx>
      <c:layout>
        <c:manualLayout>
          <c:xMode val="edge"/>
          <c:yMode val="edge"/>
          <c:x val="0.369939113817164"/>
          <c:y val="0.02028281674046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55820597058"/>
          <c:w val="0.959912892760322"/>
          <c:h val="0.770032852449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0</c:v>
                </c:pt>
                <c:pt idx="2">
                  <c:v>3</c:v>
                </c:pt>
                <c:pt idx="3">
                  <c:v>0</c:v>
                </c:pt>
                <c:pt idx="4">
                  <c:v>7</c:v>
                </c:pt>
                <c:pt idx="5">
                  <c:v>0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00401606425703</c:v>
                </c:pt>
                <c:pt idx="1">
                  <c:v>3.00401606425703</c:v>
                </c:pt>
                <c:pt idx="2">
                  <c:v>10.6506024096386</c:v>
                </c:pt>
                <c:pt idx="3">
                  <c:v>9.83132530120482</c:v>
                </c:pt>
                <c:pt idx="4">
                  <c:v>5.73493975903615</c:v>
                </c:pt>
                <c:pt idx="5">
                  <c:v>6.82730923694779</c:v>
                </c:pt>
                <c:pt idx="6">
                  <c:v>5.73493975903615</c:v>
                </c:pt>
                <c:pt idx="7">
                  <c:v>2.45783132530121</c:v>
                </c:pt>
                <c:pt idx="8">
                  <c:v>4.36947791164659</c:v>
                </c:pt>
                <c:pt idx="9">
                  <c:v>5.18875502008032</c:v>
                </c:pt>
                <c:pt idx="10">
                  <c:v>4.6425702811245</c:v>
                </c:pt>
                <c:pt idx="11">
                  <c:v>2.18473895582329</c:v>
                </c:pt>
                <c:pt idx="12">
                  <c:v>2.45783132530121</c:v>
                </c:pt>
                <c:pt idx="13">
                  <c:v>1.91164658634538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531621"/>
        <c:axId val="44356022"/>
      </c:barChart>
      <c:catAx>
        <c:axId val="753162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56022"/>
        <c:crossesAt val="0"/>
        <c:auto val="1"/>
        <c:lblAlgn val="ctr"/>
        <c:lblOffset val="100"/>
        <c:noMultiLvlLbl val="0"/>
      </c:catAx>
      <c:valAx>
        <c:axId val="44356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62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RM ABRIL MATUTINO</a:t>
            </a:r>
          </a:p>
        </c:rich>
      </c:tx>
      <c:layout>
        <c:manualLayout>
          <c:xMode val="edge"/>
          <c:yMode val="edge"/>
          <c:x val="0.43799530703502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9645371231"/>
          <c:y val="0.209223847019123"/>
          <c:w val="0.959976977907646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12</c:v>
                </c:pt>
                <c:pt idx="3">
                  <c:v>9</c:v>
                </c:pt>
                <c:pt idx="4">
                  <c:v>0</c:v>
                </c:pt>
                <c:pt idx="5">
                  <c:v>3</c:v>
                </c:pt>
                <c:pt idx="6">
                  <c:v>2</c:v>
                </c:pt>
                <c:pt idx="7">
                  <c:v>11</c:v>
                </c:pt>
                <c:pt idx="8">
                  <c:v>3</c:v>
                </c:pt>
                <c:pt idx="9">
                  <c:v>5</c:v>
                </c:pt>
                <c:pt idx="10">
                  <c:v>4</c:v>
                </c:pt>
                <c:pt idx="11">
                  <c:v>7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33692722371968</c:v>
                </c:pt>
                <c:pt idx="1">
                  <c:v>4.62533692722372</c:v>
                </c:pt>
                <c:pt idx="2">
                  <c:v>12.6307277628032</c:v>
                </c:pt>
                <c:pt idx="3">
                  <c:v>11.3854447439353</c:v>
                </c:pt>
                <c:pt idx="4">
                  <c:v>6.5822102425876</c:v>
                </c:pt>
                <c:pt idx="5">
                  <c:v>6.5822102425876</c:v>
                </c:pt>
                <c:pt idx="6">
                  <c:v>3.91374663072776</c:v>
                </c:pt>
                <c:pt idx="7">
                  <c:v>5.15902964959569</c:v>
                </c:pt>
                <c:pt idx="8">
                  <c:v>1.42318059299191</c:v>
                </c:pt>
                <c:pt idx="9">
                  <c:v>1.77897574123989</c:v>
                </c:pt>
                <c:pt idx="10">
                  <c:v>1.77897574123989</c:v>
                </c:pt>
                <c:pt idx="11">
                  <c:v>1.42318059299191</c:v>
                </c:pt>
                <c:pt idx="12">
                  <c:v>0.711590296495957</c:v>
                </c:pt>
                <c:pt idx="13">
                  <c:v>0.711590296495957</c:v>
                </c:pt>
                <c:pt idx="14">
                  <c:v>1.24528301886792</c:v>
                </c:pt>
                <c:pt idx="15">
                  <c:v>0.711590296495957</c:v>
                </c:pt>
              </c:numCache>
            </c:numRef>
          </c:val>
        </c:ser>
        <c:gapWidth val="100"/>
        <c:overlap val="0"/>
        <c:axId val="76071634"/>
        <c:axId val="5759660"/>
      </c:barChart>
      <c:catAx>
        <c:axId val="7607163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9660"/>
        <c:crossesAt val="0"/>
        <c:auto val="1"/>
        <c:lblAlgn val="ctr"/>
        <c:lblOffset val="100"/>
        <c:noMultiLvlLbl val="0"/>
      </c:catAx>
      <c:valAx>
        <c:axId val="5759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7163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RM MAIO MATUTINO</a:t>
            </a:r>
          </a:p>
        </c:rich>
      </c:tx>
      <c:layout>
        <c:manualLayout>
          <c:xMode val="edge"/>
          <c:yMode val="edge"/>
          <c:x val="0.43820274654459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0</c:v>
                </c:pt>
                <c:pt idx="3">
                  <c:v>1</c:v>
                </c:pt>
                <c:pt idx="4">
                  <c:v>0</c:v>
                </c:pt>
                <c:pt idx="5">
                  <c:v>1</c:v>
                </c:pt>
                <c:pt idx="6">
                  <c:v>0</c:v>
                </c:pt>
                <c:pt idx="7">
                  <c:v>12</c:v>
                </c:pt>
                <c:pt idx="8">
                  <c:v>4</c:v>
                </c:pt>
                <c:pt idx="9">
                  <c:v>1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39622641509434</c:v>
                </c:pt>
                <c:pt idx="1">
                  <c:v>2.94339622641509</c:v>
                </c:pt>
                <c:pt idx="2">
                  <c:v>8.0377358490566</c:v>
                </c:pt>
                <c:pt idx="3">
                  <c:v>7.24528301886792</c:v>
                </c:pt>
                <c:pt idx="4">
                  <c:v>4.18867924528302</c:v>
                </c:pt>
                <c:pt idx="5">
                  <c:v>4.18867924528302</c:v>
                </c:pt>
                <c:pt idx="6">
                  <c:v>2.49056603773585</c:v>
                </c:pt>
                <c:pt idx="7">
                  <c:v>3.28301886792453</c:v>
                </c:pt>
                <c:pt idx="8">
                  <c:v>0.90566037735849</c:v>
                </c:pt>
                <c:pt idx="9">
                  <c:v>1.13207547169811</c:v>
                </c:pt>
                <c:pt idx="10">
                  <c:v>1.13207547169811</c:v>
                </c:pt>
                <c:pt idx="11">
                  <c:v>0.90566037735849</c:v>
                </c:pt>
                <c:pt idx="12">
                  <c:v>0.452830188679245</c:v>
                </c:pt>
                <c:pt idx="13">
                  <c:v>0.452830188679245</c:v>
                </c:pt>
                <c:pt idx="14">
                  <c:v>0.792452830188679</c:v>
                </c:pt>
                <c:pt idx="15">
                  <c:v>0.452830188679245</c:v>
                </c:pt>
              </c:numCache>
            </c:numRef>
          </c:val>
        </c:ser>
        <c:gapWidth val="100"/>
        <c:overlap val="0"/>
        <c:axId val="38903101"/>
        <c:axId val="80763860"/>
      </c:barChart>
      <c:catAx>
        <c:axId val="389031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63860"/>
        <c:crossesAt val="0"/>
        <c:auto val="1"/>
        <c:lblAlgn val="ctr"/>
        <c:lblOffset val="100"/>
        <c:noMultiLvlLbl val="0"/>
      </c:catAx>
      <c:valAx>
        <c:axId val="80763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0310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0" spc="-1" strike="noStrike">
                <a:solidFill>
                  <a:srgbClr val="000000"/>
                </a:solidFill>
                <a:latin typeface="Arial"/>
              </a:defRPr>
            </a:pPr>
            <a:r>
              <a:rPr b="1" sz="1490" spc="-1" strike="noStrike">
                <a:solidFill>
                  <a:srgbClr val="000000"/>
                </a:solidFill>
                <a:latin typeface="Arial"/>
              </a:rPr>
              <a:t>EERM  MATUTINO</a:t>
            </a:r>
          </a:p>
        </c:rich>
      </c:tx>
      <c:layout>
        <c:manualLayout>
          <c:xMode val="edge"/>
          <c:yMode val="edge"/>
          <c:x val="0.367139238256078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7003066257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5</c:v>
                </c:pt>
                <c:pt idx="3">
                  <c:v>5</c:v>
                </c:pt>
                <c:pt idx="4">
                  <c:v>0</c:v>
                </c:pt>
                <c:pt idx="5">
                  <c:v>0</c:v>
                </c:pt>
                <c:pt idx="6">
                  <c:v>6</c:v>
                </c:pt>
                <c:pt idx="7">
                  <c:v>3</c:v>
                </c:pt>
                <c:pt idx="8">
                  <c:v>3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82210242587601</c:v>
                </c:pt>
                <c:pt idx="1">
                  <c:v>5.04582210242587</c:v>
                </c:pt>
                <c:pt idx="2">
                  <c:v>13.7789757412399</c:v>
                </c:pt>
                <c:pt idx="3">
                  <c:v>12.4204851752022</c:v>
                </c:pt>
                <c:pt idx="4">
                  <c:v>7.18059299191375</c:v>
                </c:pt>
                <c:pt idx="5">
                  <c:v>7.18059299191375</c:v>
                </c:pt>
                <c:pt idx="6">
                  <c:v>4.26954177897574</c:v>
                </c:pt>
                <c:pt idx="7">
                  <c:v>5.62803234501348</c:v>
                </c:pt>
                <c:pt idx="8">
                  <c:v>1.55256064690027</c:v>
                </c:pt>
                <c:pt idx="9">
                  <c:v>1.94070080862534</c:v>
                </c:pt>
                <c:pt idx="10">
                  <c:v>1.94070080862534</c:v>
                </c:pt>
                <c:pt idx="11">
                  <c:v>1.55256064690027</c:v>
                </c:pt>
                <c:pt idx="12">
                  <c:v>0.776280323450135</c:v>
                </c:pt>
                <c:pt idx="13">
                  <c:v>0.776280323450135</c:v>
                </c:pt>
                <c:pt idx="14">
                  <c:v>1.35849056603774</c:v>
                </c:pt>
                <c:pt idx="15">
                  <c:v>0.776280323450135</c:v>
                </c:pt>
              </c:numCache>
            </c:numRef>
          </c:val>
        </c:ser>
        <c:gapWidth val="100"/>
        <c:overlap val="0"/>
        <c:axId val="80883547"/>
        <c:axId val="64263168"/>
      </c:barChart>
      <c:catAx>
        <c:axId val="808835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63168"/>
        <c:crossesAt val="0"/>
        <c:auto val="1"/>
        <c:lblAlgn val="ctr"/>
        <c:lblOffset val="100"/>
        <c:noMultiLvlLbl val="0"/>
      </c:catAx>
      <c:valAx>
        <c:axId val="64263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8354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1" spc="-1" strike="noStrike">
                <a:solidFill>
                  <a:srgbClr val="000000"/>
                </a:solidFill>
                <a:latin typeface="Arial"/>
              </a:defRPr>
            </a:pPr>
            <a:r>
              <a:rPr b="0" sz="1081" spc="-1" strike="noStrike">
                <a:solidFill>
                  <a:srgbClr val="000000"/>
                </a:solidFill>
                <a:latin typeface="Arial"/>
              </a:rPr>
              <a:t>EERM MARÇO VESPERTINO</a:t>
            </a:r>
          </a:p>
        </c:rich>
      </c:tx>
      <c:layout>
        <c:manualLayout>
          <c:xMode val="edge"/>
          <c:yMode val="edge"/>
          <c:x val="0.447668992489223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480439945007"/>
          <c:w val="0.959957335229545"/>
          <c:h val="0.82314710661167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9</c:v>
                </c:pt>
                <c:pt idx="3">
                  <c:v>11</c:v>
                </c:pt>
                <c:pt idx="4">
                  <c:v>1</c:v>
                </c:pt>
                <c:pt idx="5">
                  <c:v>2</c:v>
                </c:pt>
                <c:pt idx="6">
                  <c:v>4</c:v>
                </c:pt>
                <c:pt idx="7">
                  <c:v>6</c:v>
                </c:pt>
                <c:pt idx="8">
                  <c:v>2</c:v>
                </c:pt>
                <c:pt idx="9">
                  <c:v>0</c:v>
                </c:pt>
                <c:pt idx="10">
                  <c:v>0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1690962099125</c:v>
                </c:pt>
                <c:pt idx="1">
                  <c:v>5.17492711370262</c:v>
                </c:pt>
                <c:pt idx="2">
                  <c:v>14.4897959183673</c:v>
                </c:pt>
                <c:pt idx="3">
                  <c:v>13.4548104956268</c:v>
                </c:pt>
                <c:pt idx="4">
                  <c:v>6.83090379008746</c:v>
                </c:pt>
                <c:pt idx="5">
                  <c:v>6.83090379008746</c:v>
                </c:pt>
                <c:pt idx="6">
                  <c:v>3.31195335276968</c:v>
                </c:pt>
                <c:pt idx="7">
                  <c:v>5.58892128279883</c:v>
                </c:pt>
                <c:pt idx="8">
                  <c:v>1.24198250728863</c:v>
                </c:pt>
                <c:pt idx="9">
                  <c:v>1.65597667638484</c:v>
                </c:pt>
                <c:pt idx="10">
                  <c:v>1.44897959183673</c:v>
                </c:pt>
                <c:pt idx="11">
                  <c:v>1.24198250728863</c:v>
                </c:pt>
                <c:pt idx="12">
                  <c:v>0.620991253644315</c:v>
                </c:pt>
                <c:pt idx="13">
                  <c:v>0.41399416909621</c:v>
                </c:pt>
                <c:pt idx="14">
                  <c:v>1.03498542274052</c:v>
                </c:pt>
                <c:pt idx="15">
                  <c:v>1.24198250728863</c:v>
                </c:pt>
              </c:numCache>
            </c:numRef>
          </c:val>
        </c:ser>
        <c:gapWidth val="100"/>
        <c:overlap val="0"/>
        <c:axId val="64003474"/>
        <c:axId val="67872244"/>
      </c:barChart>
      <c:catAx>
        <c:axId val="640034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72244"/>
        <c:crossesAt val="0"/>
        <c:auto val="1"/>
        <c:lblAlgn val="ctr"/>
        <c:lblOffset val="100"/>
        <c:noMultiLvlLbl val="0"/>
      </c:catAx>
      <c:valAx>
        <c:axId val="67872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0347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RM ABRIL VESPERTINO</a:t>
            </a:r>
          </a:p>
        </c:rich>
      </c:tx>
      <c:layout>
        <c:manualLayout>
          <c:xMode val="edge"/>
          <c:yMode val="edge"/>
          <c:x val="0.424226324877142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9645371231"/>
          <c:y val="0.209223847019123"/>
          <c:w val="0.959976977907646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5</c:v>
                </c:pt>
                <c:pt idx="2">
                  <c:v>9</c:v>
                </c:pt>
                <c:pt idx="3">
                  <c:v>7</c:v>
                </c:pt>
                <c:pt idx="4">
                  <c:v>1</c:v>
                </c:pt>
                <c:pt idx="5">
                  <c:v>4</c:v>
                </c:pt>
                <c:pt idx="6">
                  <c:v>7</c:v>
                </c:pt>
                <c:pt idx="7">
                  <c:v>4</c:v>
                </c:pt>
                <c:pt idx="8">
                  <c:v>4</c:v>
                </c:pt>
                <c:pt idx="9">
                  <c:v>7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96501457725948</c:v>
                </c:pt>
                <c:pt idx="1">
                  <c:v>4.81049562682216</c:v>
                </c:pt>
                <c:pt idx="2">
                  <c:v>13.469387755102</c:v>
                </c:pt>
                <c:pt idx="3">
                  <c:v>12.5072886297376</c:v>
                </c:pt>
                <c:pt idx="4">
                  <c:v>6.34985422740525</c:v>
                </c:pt>
                <c:pt idx="5">
                  <c:v>6.34985422740525</c:v>
                </c:pt>
                <c:pt idx="6">
                  <c:v>3.07871720116618</c:v>
                </c:pt>
                <c:pt idx="7">
                  <c:v>5.19533527696793</c:v>
                </c:pt>
                <c:pt idx="8">
                  <c:v>1.15451895043732</c:v>
                </c:pt>
                <c:pt idx="9">
                  <c:v>1.53935860058309</c:v>
                </c:pt>
                <c:pt idx="10">
                  <c:v>1.3469387755102</c:v>
                </c:pt>
                <c:pt idx="11">
                  <c:v>1.15451895043732</c:v>
                </c:pt>
                <c:pt idx="12">
                  <c:v>0.577259475218659</c:v>
                </c:pt>
                <c:pt idx="13">
                  <c:v>0.384839650145773</c:v>
                </c:pt>
                <c:pt idx="14">
                  <c:v>0.962099125364431</c:v>
                </c:pt>
                <c:pt idx="15">
                  <c:v>1.15451895043732</c:v>
                </c:pt>
              </c:numCache>
            </c:numRef>
          </c:val>
        </c:ser>
        <c:gapWidth val="100"/>
        <c:overlap val="0"/>
        <c:axId val="15420905"/>
        <c:axId val="76059238"/>
      </c:barChart>
      <c:catAx>
        <c:axId val="1542090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59238"/>
        <c:crossesAt val="0"/>
        <c:auto val="1"/>
        <c:lblAlgn val="ctr"/>
        <c:lblOffset val="100"/>
        <c:noMultiLvlLbl val="0"/>
      </c:catAx>
      <c:valAx>
        <c:axId val="76059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2090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RM MAIO VESPERTINO</a:t>
            </a:r>
          </a:p>
        </c:rich>
      </c:tx>
      <c:layout>
        <c:manualLayout>
          <c:xMode val="edge"/>
          <c:yMode val="edge"/>
          <c:x val="0.424558908492956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12892760322"/>
          <c:h val="0.7696307159045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0</c:v>
                </c:pt>
                <c:pt idx="3">
                  <c:v>4</c:v>
                </c:pt>
                <c:pt idx="4">
                  <c:v>0</c:v>
                </c:pt>
                <c:pt idx="5">
                  <c:v>0</c:v>
                </c:pt>
                <c:pt idx="6">
                  <c:v>7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79591836734694</c:v>
                </c:pt>
                <c:pt idx="1">
                  <c:v>3.06122448979592</c:v>
                </c:pt>
                <c:pt idx="2">
                  <c:v>8.57142857142857</c:v>
                </c:pt>
                <c:pt idx="3">
                  <c:v>7.95918367346939</c:v>
                </c:pt>
                <c:pt idx="4">
                  <c:v>4.04081632653061</c:v>
                </c:pt>
                <c:pt idx="5">
                  <c:v>4.04081632653061</c:v>
                </c:pt>
                <c:pt idx="6">
                  <c:v>1.95918367346939</c:v>
                </c:pt>
                <c:pt idx="7">
                  <c:v>3.30612244897959</c:v>
                </c:pt>
                <c:pt idx="8">
                  <c:v>0.73469387755102</c:v>
                </c:pt>
                <c:pt idx="9">
                  <c:v>0.979591836734694</c:v>
                </c:pt>
                <c:pt idx="10">
                  <c:v>0.857142857142857</c:v>
                </c:pt>
                <c:pt idx="11">
                  <c:v>0.73469387755102</c:v>
                </c:pt>
                <c:pt idx="12">
                  <c:v>0.36734693877551</c:v>
                </c:pt>
                <c:pt idx="13">
                  <c:v>0.244897959183673</c:v>
                </c:pt>
                <c:pt idx="14">
                  <c:v>0.612244897959184</c:v>
                </c:pt>
                <c:pt idx="15">
                  <c:v>0.73469387755102</c:v>
                </c:pt>
              </c:numCache>
            </c:numRef>
          </c:val>
        </c:ser>
        <c:gapWidth val="100"/>
        <c:overlap val="0"/>
        <c:axId val="99988326"/>
        <c:axId val="55613869"/>
      </c:barChart>
      <c:catAx>
        <c:axId val="999883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3869"/>
        <c:crossesAt val="0"/>
        <c:auto val="1"/>
        <c:lblAlgn val="ctr"/>
        <c:lblOffset val="100"/>
        <c:noMultiLvlLbl val="0"/>
      </c:catAx>
      <c:valAx>
        <c:axId val="55613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8832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0" spc="-1" strike="noStrike">
                <a:solidFill>
                  <a:srgbClr val="000000"/>
                </a:solidFill>
                <a:latin typeface="Arial"/>
              </a:defRPr>
            </a:pPr>
            <a:r>
              <a:rPr b="1" sz="1490" spc="-1" strike="noStrike">
                <a:solidFill>
                  <a:srgbClr val="000000"/>
                </a:solidFill>
                <a:latin typeface="Arial"/>
              </a:rPr>
              <a:t>EERM  VESPERTINO</a:t>
            </a:r>
          </a:p>
        </c:rich>
      </c:tx>
      <c:layout>
        <c:manualLayout>
          <c:xMode val="edge"/>
          <c:yMode val="edge"/>
          <c:x val="0.353495400204435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7003066257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3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3</c:v>
                </c:pt>
                <c:pt idx="9">
                  <c:v>1</c:v>
                </c:pt>
                <c:pt idx="10">
                  <c:v>0</c:v>
                </c:pt>
                <c:pt idx="11">
                  <c:v>2</c:v>
                </c:pt>
                <c:pt idx="12">
                  <c:v>5</c:v>
                </c:pt>
                <c:pt idx="13">
                  <c:v>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3343023255814</c:v>
                </c:pt>
                <c:pt idx="1">
                  <c:v>2.68895348837209</c:v>
                </c:pt>
                <c:pt idx="2">
                  <c:v>7.52906976744186</c:v>
                </c:pt>
                <c:pt idx="3">
                  <c:v>6.99127906976744</c:v>
                </c:pt>
                <c:pt idx="4">
                  <c:v>3.54941860465116</c:v>
                </c:pt>
                <c:pt idx="5">
                  <c:v>3.54941860465116</c:v>
                </c:pt>
                <c:pt idx="6">
                  <c:v>1.72093023255814</c:v>
                </c:pt>
                <c:pt idx="7">
                  <c:v>2.90406976744186</c:v>
                </c:pt>
                <c:pt idx="8">
                  <c:v>0.645348837209302</c:v>
                </c:pt>
                <c:pt idx="9">
                  <c:v>0.86046511627907</c:v>
                </c:pt>
                <c:pt idx="10">
                  <c:v>0.752906976744186</c:v>
                </c:pt>
                <c:pt idx="11">
                  <c:v>0.645348837209302</c:v>
                </c:pt>
                <c:pt idx="12">
                  <c:v>0.322674418604651</c:v>
                </c:pt>
                <c:pt idx="13">
                  <c:v>0.322674418604651</c:v>
                </c:pt>
                <c:pt idx="14">
                  <c:v>0.537790697674419</c:v>
                </c:pt>
                <c:pt idx="15">
                  <c:v>0.645348837209302</c:v>
                </c:pt>
              </c:numCache>
            </c:numRef>
          </c:val>
        </c:ser>
        <c:gapWidth val="100"/>
        <c:overlap val="0"/>
        <c:axId val="49846228"/>
        <c:axId val="31120415"/>
      </c:barChart>
      <c:catAx>
        <c:axId val="4984622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20415"/>
        <c:crossesAt val="0"/>
        <c:auto val="1"/>
        <c:lblAlgn val="ctr"/>
        <c:lblOffset val="100"/>
        <c:noMultiLvlLbl val="0"/>
      </c:catAx>
      <c:valAx>
        <c:axId val="31120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4622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1" spc="-1" strike="noStrike">
                <a:solidFill>
                  <a:srgbClr val="000000"/>
                </a:solidFill>
                <a:latin typeface="Arial"/>
              </a:defRPr>
            </a:pPr>
            <a:r>
              <a:rPr b="0" sz="1081" spc="-1" strike="noStrike">
                <a:solidFill>
                  <a:srgbClr val="000000"/>
                </a:solidFill>
                <a:latin typeface="Arial"/>
              </a:rPr>
              <a:t>EERM MARÇO NOTURNO</a:t>
            </a:r>
          </a:p>
        </c:rich>
      </c:tx>
      <c:layout>
        <c:manualLayout>
          <c:xMode val="edge"/>
          <c:yMode val="edge"/>
          <c:x val="0.459135149548909"/>
          <c:y val="0.019995001249687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335916020995"/>
          <c:w val="0.959912892760322"/>
          <c:h val="0.82279430142464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11</c:v>
                </c:pt>
                <c:pt idx="3">
                  <c:v>4</c:v>
                </c:pt>
                <c:pt idx="4">
                  <c:v>3</c:v>
                </c:pt>
                <c:pt idx="5">
                  <c:v>0</c:v>
                </c:pt>
                <c:pt idx="6">
                  <c:v>8</c:v>
                </c:pt>
                <c:pt idx="7">
                  <c:v>4</c:v>
                </c:pt>
                <c:pt idx="8">
                  <c:v>5</c:v>
                </c:pt>
                <c:pt idx="9">
                  <c:v>0</c:v>
                </c:pt>
                <c:pt idx="10">
                  <c:v>2</c:v>
                </c:pt>
                <c:pt idx="11">
                  <c:v>0</c:v>
                </c:pt>
                <c:pt idx="12">
                  <c:v>3</c:v>
                </c:pt>
                <c:pt idx="13">
                  <c:v>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04819277108434</c:v>
                </c:pt>
                <c:pt idx="1">
                  <c:v>3.04819277108434</c:v>
                </c:pt>
                <c:pt idx="2">
                  <c:v>10.8072289156627</c:v>
                </c:pt>
                <c:pt idx="3">
                  <c:v>9.97590361445783</c:v>
                </c:pt>
                <c:pt idx="4">
                  <c:v>6.92771084337349</c:v>
                </c:pt>
                <c:pt idx="5">
                  <c:v>6.92771084337349</c:v>
                </c:pt>
                <c:pt idx="6">
                  <c:v>6.92771084337349</c:v>
                </c:pt>
                <c:pt idx="7">
                  <c:v>2.49397590361446</c:v>
                </c:pt>
                <c:pt idx="8">
                  <c:v>4.43373493975904</c:v>
                </c:pt>
                <c:pt idx="9">
                  <c:v>5.26506024096386</c:v>
                </c:pt>
                <c:pt idx="10">
                  <c:v>4.71084337349398</c:v>
                </c:pt>
                <c:pt idx="11">
                  <c:v>2.21686746987952</c:v>
                </c:pt>
                <c:pt idx="12">
                  <c:v>1.3855421686747</c:v>
                </c:pt>
                <c:pt idx="13">
                  <c:v>0.831325301204819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4127971"/>
        <c:axId val="47955851"/>
      </c:barChart>
      <c:catAx>
        <c:axId val="241279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55851"/>
        <c:crossesAt val="0"/>
        <c:auto val="1"/>
        <c:lblAlgn val="ctr"/>
        <c:lblOffset val="100"/>
        <c:noMultiLvlLbl val="0"/>
      </c:catAx>
      <c:valAx>
        <c:axId val="47955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2797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D188-2576-4672-8752-9AACFB3D38A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1131-CCAA-470B-AA1F-320D8E1AB68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1FEA-3099-4EC0-AFAD-25C4BBCD611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58C3-AC56-44C9-81B5-8A473085CD6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F218-85CC-486E-A325-77D6685B6F0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04C2-99BB-4425-8FAF-3743C85E76E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D9A7-E03C-4C1D-ACF4-A6AC92F0E1D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37BA-EB08-4997-AA89-86CCBF822A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FFAB-9836-4F64-8F47-C933D1B1B33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369E-5F12-4F67-A631-67BAC395CB7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24E4-8271-4AC2-AB83-5C36A7DEE1C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BC74-C25F-4066-AA7F-1E19276F0E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15AC-B435-461F-B6A4-694F7141F9B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F02-A9DB-4923-94BF-A5E4C82A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9DF-E03B-41D2-8D33-13BC9A99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849-92D1-42A8-A907-E08ACCA7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753-234D-4A10-9F4B-B004F1F5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20EB-2717-499E-BA0D-82BC066F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7F87-EE57-4FFE-990C-10E26860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ABDF-DE14-43C6-B3D0-BFF09946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226E-F483-491A-B338-3BB6F046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5D8-7041-4327-9D36-817705A5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52D5-6CBE-4468-80EA-C66F1380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8B97-7FAE-4E9D-858D-E7753346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C8B-8A86-4326-BB4B-CDF49A17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BC21-71D9-480B-82A6-2D64F44B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4054-6AD8-429B-B1E8-1FA04353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6A2C-85AF-4D44-B523-0C594BD7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6A7B-88CD-4162-A164-6ED79CCE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FBD0-BF0C-42AB-B3EC-DE4BC64A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5EBE6-9EEA-4628-9BFA-A5F4E138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144B3-F288-4B61-AAF0-5396915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ACC69-E0DC-4E09-BC9E-5D0CDF11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4E91B-455B-4E80-977D-889C33C4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8F16C-817B-46B9-B490-AB399035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AA4-C2A8-4671-B021-9E91FF4F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65D44-B1CB-400B-84A3-2F899B26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59AA9-C7CE-4B9C-B989-60AFCCC8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EC352-4984-4EA4-A7C3-8F997A0A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86FC8-DC2C-4FD4-A9E5-157B860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4E91B-2946-4880-9F41-6F8D1265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27D9A-FBEA-414C-993F-16ADD30A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AE653-AB17-4B47-9444-7A6AFF4C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1594F-5C49-4B73-8528-0520BEC2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9ECCA-D5D7-46D8-89BE-7A74FAA7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DE1B0-4E83-46C3-8E6C-33B52195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BE4-1EB5-4C8A-8C72-5D23933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65EFA-242A-44F6-9C53-944F4F41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CBBD8-7532-4786-A384-5928DB9C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4ED56-C466-4934-A9B0-23608482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AC737-39C3-4439-B396-D5BF763A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EE2709-CC6C-41C3-888C-9C1D970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837E4-FD18-4AD2-85AF-E7D5C51A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B487E-540F-41ED-8D95-458FC906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D369A-6866-4B13-ABFE-061805A7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9F597-A2FF-4039-BE70-AC52ACF1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5CE94-2F9F-4545-BB69-09ECE5D7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708-7AED-458E-93DE-DA6FF682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53A70-86EA-4242-8FF1-BBD90E40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86701-A7D2-4E6F-8F5C-B6077D5C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ADE67-4CE3-4213-AD02-AC8A411F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8C07A-E647-42C8-8367-603EABEE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6FFC9-6A89-46B2-BEC9-F16E95F6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20D4E-9A90-4881-860B-607AB0AC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78FDD-2268-4BBF-9333-868CF608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28BF0-CF98-4C05-AD0C-2AD8C1F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19EE9-5E36-40EA-A948-E357371F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78CA0-1CD6-4BCF-A548-648E5594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FDB-4286-44F2-8327-2ACACD75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0A66A-18AE-4C6B-BEC9-7E28B2C6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34523-89C6-4667-8F60-C8D89FAB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0D986-1523-4EBB-9616-6544491E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BA90F-B80E-423D-82C2-5CE38C55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4F4FF-C7DE-43FA-AA80-3C05F48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B4B5-6B91-468B-94AA-291D286B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DE88-F74B-4269-A99B-0631FEFD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F6C6A-D3A3-44F6-8A93-B084667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1B590-8496-420B-96A1-4ED0380D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BDF0-7968-4C44-BE05-134177C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592-C122-45E6-9FDB-7B9DE1C6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00F3B-E9C5-44E5-9C4A-B302F1F7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54260-7F18-4995-A72E-7D40D10B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8431E-F692-4FBB-9E2A-53FE21CE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A040B-C226-444D-BFFC-7BB11651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4B740-CA80-45A8-998A-EC81EF52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F55FB-4C06-4A8F-B570-FE4EBD45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2CE55-8E24-466B-9D04-1929B2C9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FB945-5571-426D-ADC0-29CA09DF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D3583-16CD-4233-91D9-6C5048D4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5FBB8-386D-4A21-8405-EF19858D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A79-F9BA-4B4C-8C02-FA68F774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9F3A5-D58C-4E1B-A333-53E52060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2B2B7-DF0D-4626-A2E7-9E3FF4E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F10DB-349B-4145-9C1C-13899625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1323C-E434-47CE-BC34-0D703736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95617-799F-4666-AE45-2845B7C9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9006F-01E3-4C2E-B0B5-2BD1F1C0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9FE74-6241-4EA9-BA02-C7FCE3C5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6DADF-1251-445B-A611-83F18D09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34F2-74E8-4BE5-940D-75DF42F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26BC0-306D-4914-8676-F1D2D9DA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31D-CDD1-4709-B774-65E18EB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A2C29-4A51-4408-B3A0-45353371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5B4EB-9B6B-44FE-BDD4-8F9292C4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0C259-0D44-4591-B4E2-A1425AA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4335F-478A-44AB-8032-CBD151E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95D20-DC2A-4359-A69A-7E8B469A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062B-CE5C-4CDA-BDDC-40310614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32F9-59ED-4EDC-9BF5-C5346FD1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DAC0-C99E-4141-929B-5E8AA502272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2073-8870-4F5B-9B7A-74CB1CD60270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â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1B2A-E61F-4C60-AE6B-3493D616C0E8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767D-9DEB-4A36-BF86-C1F838C74E5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412D-2F21-42C6-BB68-6066BA0DFA3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A359-83D5-43BE-A031-403DBB0C1336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â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â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tângulo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281E-E77D-4017-BF9F-6C155ECB663B}" type="slidenum"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â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â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42D-7884-4B6E-843E-B59A9555A7D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775f55"/>
                </a:solidFill>
                <a:latin typeface="Tw Cen MT"/>
              </a:rPr>
              <a:t>E. E. REYNALDO MASS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w Cen MT"/>
              </a:rPr>
              <a:t>NTE – NOVA ANDRADI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Espaço Reservado para Rodapé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9640" y="1642680"/>
            <a:ext cx="36165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LINUX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TAC II – Ambientes Tecnológicos de Aprendizagem Colaborativa e Proinfo integrado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788000" y="1643040"/>
            <a:ext cx="43560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concluído em Nova Andradin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1428480"/>
            <a:ext cx="91440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99"/>
                </a:solidFill>
                <a:latin typeface="Tw Cen MT"/>
              </a:rPr>
              <a:t>PELA STE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0920" y="1571400"/>
            <a:ext cx="36162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Elaboração e apresentação do Plano de Ação 2009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Preenchimento do relatório do PNUD Brasil Ponto a Ponto pelos alunos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Acompanhamento das atividades desenvolvidas pelos professores regentes;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859280" y="1643040"/>
            <a:ext cx="3618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5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9/03 a 16/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3/03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m andament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1643040"/>
            <a:ext cx="3616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w Cen MT"/>
              </a:rPr>
              <a:t>Pesquisa com professores regentes sobre os cursos que poderão ser ofertados pelos professores da STE;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riação e alimentação página WIKI da esco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urso Básico de Informática (CBIV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643280" y="1643040"/>
            <a:ext cx="450072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5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7/04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parcialmente executad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5/05 a 29/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99680" y="1571400"/>
            <a:ext cx="36162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Elaboração  Projeto I Encontro PST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Execução Projeto I Encontro PST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Auxilio na elaboração de projetos individua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TV Escola análise e divulgação junto aos docentes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5003640" y="1571760"/>
            <a:ext cx="361656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04/05 a 29/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01 a 30/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 em anda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em andament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99"/>
                </a:solidFill>
                <a:latin typeface="Tw Cen MT"/>
              </a:rPr>
              <a:t>ESTATÍSTICA</a:t>
            </a: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47592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RÇO – ABRIL– MAIO - JUNH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CLEMILTO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>
              <a:spcBef>
                <a:spcPts val="9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6215040" y="214200"/>
            <a:ext cx="27226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6"/>
          <p:cNvGraphicFramePr/>
          <p:nvPr/>
        </p:nvGraphicFramePr>
        <p:xfrm>
          <a:off x="0" y="1214280"/>
          <a:ext cx="9144000" cy="3252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2" name="Object 7"/>
          <p:cNvGraphicFramePr/>
          <p:nvPr/>
        </p:nvGraphicFramePr>
        <p:xfrm>
          <a:off x="2571840" y="4621320"/>
          <a:ext cx="4143240" cy="15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1840" y="4621320"/>
                    <a:ext cx="414324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0" y="1285920"/>
          <a:ext cx="9144000" cy="3238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Object 7"/>
          <p:cNvGraphicFramePr/>
          <p:nvPr/>
        </p:nvGraphicFramePr>
        <p:xfrm>
          <a:off x="2428920" y="4567320"/>
          <a:ext cx="4333680" cy="1647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4567320"/>
                    <a:ext cx="43336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6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32" name="Object 7"/>
          <p:cNvGraphicFramePr/>
          <p:nvPr/>
        </p:nvGraphicFramePr>
        <p:xfrm>
          <a:off x="2428920" y="4576680"/>
          <a:ext cx="4308480" cy="163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4576680"/>
                    <a:ext cx="43084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GRUPO COMO UN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Espaço Reservado para Rodapé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8"/>
          <p:cNvGrpSpPr/>
          <p:nvPr/>
        </p:nvGrpSpPr>
        <p:grpSpPr>
          <a:xfrm>
            <a:off x="1143000" y="1643040"/>
            <a:ext cx="6337080" cy="4651920"/>
            <a:chOff x="1143000" y="1643040"/>
            <a:chExt cx="6337080" cy="4651920"/>
          </a:xfrm>
        </p:grpSpPr>
        <p:grpSp>
          <p:nvGrpSpPr>
            <p:cNvPr id="363" name="Group 33"/>
            <p:cNvGrpSpPr/>
            <p:nvPr/>
          </p:nvGrpSpPr>
          <p:grpSpPr>
            <a:xfrm>
              <a:off x="2079360" y="5530680"/>
              <a:ext cx="5400720" cy="764280"/>
              <a:chOff x="2079360" y="5530680"/>
              <a:chExt cx="5400720" cy="764280"/>
            </a:xfrm>
          </p:grpSpPr>
          <p:sp>
            <p:nvSpPr>
              <p:cNvPr id="364" name="Text Box 14"/>
              <p:cNvSpPr/>
              <p:nvPr/>
            </p:nvSpPr>
            <p:spPr>
              <a:xfrm>
                <a:off x="2079360" y="5530680"/>
                <a:ext cx="100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400" spc="-1" strike="noStrike">
                    <a:solidFill>
                      <a:srgbClr val="000000"/>
                    </a:solidFill>
                    <a:latin typeface="Arial"/>
                  </a:rPr>
                  <a:t>72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8"/>
              <p:cNvSpPr/>
              <p:nvPr/>
            </p:nvSpPr>
            <p:spPr>
              <a:xfrm>
                <a:off x="2871360" y="5964120"/>
                <a:ext cx="6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9"/>
              <p:cNvSpPr/>
              <p:nvPr/>
            </p:nvSpPr>
            <p:spPr>
              <a:xfrm>
                <a:off x="3519360" y="5530680"/>
                <a:ext cx="165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000099"/>
                    </a:solidFill>
                    <a:latin typeface="Arial"/>
                  </a:rPr>
                  <a:t>5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21"/>
              <p:cNvSpPr/>
              <p:nvPr/>
            </p:nvSpPr>
            <p:spPr>
              <a:xfrm>
                <a:off x="4959000" y="596412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22"/>
              <p:cNvSpPr/>
              <p:nvPr/>
            </p:nvSpPr>
            <p:spPr>
              <a:xfrm>
                <a:off x="5535360" y="5530680"/>
                <a:ext cx="194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000000"/>
                    </a:solidFill>
                    <a:latin typeface="Arial"/>
                  </a:rPr>
                  <a:t>22.0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6"/>
            <p:cNvGrpSpPr/>
            <p:nvPr/>
          </p:nvGrpSpPr>
          <p:grpSpPr>
            <a:xfrm>
              <a:off x="1143000" y="1643040"/>
              <a:ext cx="6049800" cy="3671280"/>
              <a:chOff x="1143000" y="1643040"/>
              <a:chExt cx="6049800" cy="3671280"/>
            </a:xfrm>
          </p:grpSpPr>
          <p:sp>
            <p:nvSpPr>
              <p:cNvPr id="370" name="AutoShape 37"/>
              <p:cNvSpPr/>
              <p:nvPr/>
            </p:nvSpPr>
            <p:spPr>
              <a:xfrm flipV="1">
                <a:off x="2655720" y="1642680"/>
                <a:ext cx="3851640" cy="1495440"/>
              </a:xfrm>
              <a:custGeom>
                <a:avLst/>
                <a:gdLst>
                  <a:gd name="textAreaLeft" fmla="*/ 673920 w 3851640"/>
                  <a:gd name="textAreaRight" fmla="*/ 2792520 w 385164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38"/>
              <p:cNvSpPr/>
              <p:nvPr/>
            </p:nvSpPr>
            <p:spPr>
              <a:xfrm>
                <a:off x="2725560" y="3818880"/>
                <a:ext cx="3710520" cy="1495440"/>
              </a:xfrm>
              <a:custGeom>
                <a:avLst/>
                <a:gdLst>
                  <a:gd name="textAreaLeft" fmla="*/ 649080 w 3710520"/>
                  <a:gd name="textAreaRight" fmla="*/ 2690280 w 371052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59" hR="21600" stAng="10800000" swAng="-5400000"/>
                    <a:lnTo>
                      <a:pt x="11881" y="21600"/>
                    </a:lnTo>
                    <a:arcTo wR="7559" hR="21600" stAng="5400000" swAng="-2682296"/>
                    <a:lnTo>
                      <a:pt x="21168" y="7200"/>
                    </a:lnTo>
                    <a:lnTo>
                      <a:pt x="17278" y="0"/>
                    </a:lnTo>
                    <a:lnTo>
                      <a:pt x="12524" y="7200"/>
                    </a:lnTo>
                    <a:lnTo>
                      <a:pt x="14685" y="7200"/>
                    </a:lnTo>
                    <a:arcTo wR="7559" hR="21600" stAng="2717704" swAng="2324676"/>
                    <a:lnTo>
                      <a:pt x="9720" y="20698"/>
                    </a:lnTo>
                    <a:arcTo wR="7559" hR="21600" stAng="5757620" swAng="5042380"/>
                    <a:close/>
                  </a:path>
                  <a:path fill="darkenLess" w="21600" h="21600">
                    <a:moveTo>
                      <a:pt x="0" y="0"/>
                    </a:moveTo>
                    <a:arcTo wR="7559" hR="21600" stAng="10800000" swAng="-5400000"/>
                    <a:lnTo>
                      <a:pt x="11881" y="21600"/>
                    </a:lnTo>
                    <a:arcTo wR="7559" hR="21600" stAng="5400000" swAng="357620"/>
                    <a:lnTo>
                      <a:pt x="9720" y="20698"/>
                    </a:lnTo>
                    <a:arcTo wR="7559" hR="21600" stAng="5757620" swAng="5042380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1143000" y="3274920"/>
                <a:ext cx="604980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Arial"/>
                  </a:rPr>
                  <a:t>COTEC      NTE        ST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40"/>
              <p:cNvSpPr/>
              <p:nvPr/>
            </p:nvSpPr>
            <p:spPr>
              <a:xfrm>
                <a:off x="2243160" y="3886200"/>
                <a:ext cx="61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02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41"/>
              <p:cNvSpPr/>
              <p:nvPr/>
            </p:nvSpPr>
            <p:spPr>
              <a:xfrm>
                <a:off x="251928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42"/>
              <p:cNvSpPr/>
              <p:nvPr/>
            </p:nvSpPr>
            <p:spPr>
              <a:xfrm>
                <a:off x="410004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9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3"/>
              <p:cNvSpPr/>
              <p:nvPr/>
            </p:nvSpPr>
            <p:spPr>
              <a:xfrm>
                <a:off x="430632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44"/>
              <p:cNvSpPr/>
              <p:nvPr/>
            </p:nvSpPr>
            <p:spPr>
              <a:xfrm>
                <a:off x="602568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>
                <a:off x="6093720" y="3615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6"/>
              <p:cNvSpPr/>
              <p:nvPr/>
            </p:nvSpPr>
            <p:spPr>
              <a:xfrm>
                <a:off x="6231600" y="361512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Espaço Reservado para Rodapé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JUNH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0" y="1214280"/>
          <a:ext cx="9144000" cy="3048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37" name="Object 3"/>
          <p:cNvGraphicFramePr/>
          <p:nvPr/>
        </p:nvGraphicFramePr>
        <p:xfrm>
          <a:off x="2571840" y="4394160"/>
          <a:ext cx="4357440" cy="165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1840" y="4394160"/>
                    <a:ext cx="43574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69192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VESPER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- ABRIL – MAIO - JUNH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ESTEFAN</a:t>
            </a:r>
            <a:r>
              <a:rPr b="1" lang="pt-BR" sz="4000" spc="-1" strike="noStrike">
                <a:solidFill>
                  <a:srgbClr val="94b6d2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223380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6"/>
          <p:cNvGraphicFramePr/>
          <p:nvPr/>
        </p:nvGraphicFramePr>
        <p:xfrm>
          <a:off x="0" y="1285920"/>
          <a:ext cx="9144000" cy="328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5" name="Object 7"/>
          <p:cNvGraphicFramePr/>
          <p:nvPr/>
        </p:nvGraphicFramePr>
        <p:xfrm>
          <a:off x="2428920" y="4643280"/>
          <a:ext cx="4249800" cy="161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4643280"/>
                    <a:ext cx="4249800" cy="16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6"/>
          <p:cNvGraphicFramePr/>
          <p:nvPr/>
        </p:nvGraphicFramePr>
        <p:xfrm>
          <a:off x="0" y="1214280"/>
          <a:ext cx="9144000" cy="3238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0" name="Object 7"/>
          <p:cNvGraphicFramePr/>
          <p:nvPr/>
        </p:nvGraphicFramePr>
        <p:xfrm>
          <a:off x="2500200" y="4594320"/>
          <a:ext cx="4143600" cy="15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4594320"/>
                    <a:ext cx="41436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0" y="1214280"/>
          <a:ext cx="9144000" cy="3048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5" name="Object 7"/>
          <p:cNvGraphicFramePr/>
          <p:nvPr/>
        </p:nvGraphicFramePr>
        <p:xfrm>
          <a:off x="2500200" y="4413240"/>
          <a:ext cx="4286520" cy="16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4413240"/>
                    <a:ext cx="428652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Espaço Reservado para Rodapé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JUNH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59" name="Object 2"/>
          <p:cNvGraphicFramePr/>
          <p:nvPr/>
        </p:nvGraphicFramePr>
        <p:xfrm>
          <a:off x="0" y="1214280"/>
          <a:ext cx="9144000" cy="3048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0" name="Object 3"/>
          <p:cNvGraphicFramePr/>
          <p:nvPr/>
        </p:nvGraphicFramePr>
        <p:xfrm>
          <a:off x="2357280" y="4370400"/>
          <a:ext cx="4664160" cy="177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4370400"/>
                    <a:ext cx="466416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214200"/>
            <a:ext cx="91440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NOTUR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 – ABRIL – MAIO - JUNH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VÂNIA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6929280" y="42876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8" name="Object 7"/>
          <p:cNvGraphicFramePr/>
          <p:nvPr/>
        </p:nvGraphicFramePr>
        <p:xfrm>
          <a:off x="2500200" y="4594320"/>
          <a:ext cx="4286520" cy="16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4594320"/>
                    <a:ext cx="428652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6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73" name="Object 7"/>
          <p:cNvGraphicFramePr/>
          <p:nvPr/>
        </p:nvGraphicFramePr>
        <p:xfrm>
          <a:off x="2571840" y="4564080"/>
          <a:ext cx="4286160" cy="16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1840" y="4564080"/>
                    <a:ext cx="428616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78" name="Object 7"/>
          <p:cNvGraphicFramePr/>
          <p:nvPr/>
        </p:nvGraphicFramePr>
        <p:xfrm>
          <a:off x="2214720" y="4562640"/>
          <a:ext cx="4429080" cy="168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4562640"/>
                    <a:ext cx="44290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8360" y="15001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lguns pontos que devem ser mudados para o bom andamento do trabalho na ST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s ações que foram desenvolvidas pelos professores multiplicadores (NTE – STE)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, analisar e refletir a respeito do uso da STE da escola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Elaborar cronograma de ações dos professores da STE no 2º semestre para formação in lo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Espaço Reservado para Rodapé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JUNH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2" name="Object 2"/>
          <p:cNvGraphicFramePr/>
          <p:nvPr/>
        </p:nvGraphicFramePr>
        <p:xfrm>
          <a:off x="0" y="1214280"/>
          <a:ext cx="9144000" cy="2845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83" name="Object 3"/>
          <p:cNvGraphicFramePr/>
          <p:nvPr/>
        </p:nvGraphicFramePr>
        <p:xfrm>
          <a:off x="2428920" y="4286160"/>
          <a:ext cx="4643280" cy="176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4286160"/>
                    <a:ext cx="46432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39640" y="285480"/>
            <a:ext cx="8229600" cy="57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PONTOS PARA REFLETIR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2928960" y="2000160"/>
            <a:ext cx="2924280" cy="375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comunicação entre PNTE e PSTE deve ser constante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e-mails devem ser lidos por todo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MSN deve ficar ligado no período em que o Professor da STE estiver na sal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prazos deverão ser cumpridos, podendo ser alterado com justificativa prévi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responsabilizado o profissional que não cumprir com suas atribuições (professor do NTE, STE e professores regentes)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construído portfólio online das atividades desenvolvidas pelos alunos na STE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Todos os planos de aula dos professores deverão ser assinados pelo coordenador do turno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,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8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4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planejamento junto aos coordenadores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quadro de planejamento mensal do professor da STE deverá se adequar ao horário de atividades do professor regente, acompanhado pelos coordenadores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168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plano de aula do professore regente deve prever no máximo </a:t>
            </a:r>
            <a:r>
              <a:rPr b="1" lang="pt-BR" sz="29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aulas, mais que isso é necessário projet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uso das mídias externa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68360" y="642600"/>
            <a:ext cx="82296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coordenador pedagógic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diretor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720720" y="2492280"/>
            <a:ext cx="7770960" cy="228852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quipe técnica e a pedagógica das unidades escolares, em especial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ão as principais parceiras na garantia da efetiva utilização das ST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2320920" y="706320"/>
            <a:ext cx="5340240" cy="7462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TE – Sala de Tecnolo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professor2"/>
          <p:cNvPicPr/>
          <p:nvPr/>
        </p:nvPicPr>
        <p:blipFill>
          <a:blip r:embed="rId1"/>
          <a:stretch/>
        </p:blipFill>
        <p:spPr>
          <a:xfrm>
            <a:off x="247680" y="347760"/>
            <a:ext cx="202392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1200240" y="1108080"/>
            <a:ext cx="362592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584280" y="2752560"/>
            <a:ext cx="7889760" cy="302004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fessor de tecnologias deverá ficar atento quanto ao planejamento do professor regente que deverá ser entregue com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antecedência e com a ciência da 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que sejam disponibilizados os recursos necessários na STE e para que possam verificar as atividades a serem executadas pelos alunos e disponibilizá-las de acordo com o horário de aulas planejad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planejamento_"/>
          <p:cNvPicPr/>
          <p:nvPr/>
        </p:nvPicPr>
        <p:blipFill>
          <a:blip r:embed="rId1"/>
          <a:stretch/>
        </p:blipFill>
        <p:spPr>
          <a:xfrm>
            <a:off x="4892760" y="841320"/>
            <a:ext cx="2254320" cy="15019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"/>
          <p:cNvSpPr/>
          <p:nvPr/>
        </p:nvSpPr>
        <p:spPr>
          <a:xfrm>
            <a:off x="387360" y="2084400"/>
            <a:ext cx="8327880" cy="342036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diretores e coordenadores pedagóg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vem acompanhar as aulas desenvolvidas nas STEs, observando o cumprimento das regras de utilização das mesmas para garantir o seu uso pedagógico e consciente, com vistas ao desenvolvimento do processo de ensino e aprendizagem de seus alunos, e assegurar a sua utilização, para que a mesma não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ique ocio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590400" y="369720"/>
            <a:ext cx="8128080" cy="14734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dução pedagógica para a intensifica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 uso dos  recursos tecnológicos existen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s unidades escola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ESTRUTURA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15717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1. Apresentar as ações previstas, executadas e a executar pelos professores do NTE e STE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2. Apresentar a realidade de uso da STE nos meses de março – abril – mai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3. Identificar os professores que usaram as tecnologias efetivamente no 1º semestre e os que não utilizaram e qual turno apresentou menos us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4. Apresentar e discutir cronograma de ações NTE/STE para o 2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6520" y="214200"/>
            <a:ext cx="7408800" cy="79236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Direção e equi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écnica pedagógica -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395280" y="1197000"/>
            <a:ext cx="8377200" cy="46645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ferecer, à Sala de Tecnologias Educacionais, condições de funcionamento, disponibilizando o material de consumo necessário ao desenvolvimento das atividad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e avaliar as atividades desenvolvida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egurar que os professores regentes cumpram, semanalmente, o planejamento das atividade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o cumprimento da carga horária do professor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centivar o uso da Sala de Tecnologias Educacionais pelos professores regent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26920" y="476280"/>
            <a:ext cx="698976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 direção equipe técnic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dagógica -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042920" y="1413000"/>
            <a:ext cx="6624720" cy="442080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o processo de seleção do professor de tecnologias, no âmbito da unidade escolar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a conservação e manutenção dos equipamentos, mobiliário e materiais d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formar à Secretaria de Estado de Educação quaisquer irregularidades da Sala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valiar o desempenho do professor de tecnolog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Espaço Reservado para Rodapé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CRONOGRAMA AÇÕES NTE/S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28760" y="1928880"/>
            <a:ext cx="82296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w Cen MT"/>
              </a:rPr>
              <a:t>Cronograma de Ação PNT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w Cen MT"/>
              </a:rPr>
              <a:t>Cronograma de Ação PST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w Cen MT"/>
              </a:rPr>
              <a:t>Cronograma Completo PNTE/PST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5"/>
          <p:cNvGrpSpPr/>
          <p:nvPr/>
        </p:nvGrpSpPr>
        <p:grpSpPr>
          <a:xfrm>
            <a:off x="1258920" y="1643040"/>
            <a:ext cx="6599160" cy="4233960"/>
            <a:chOff x="1258920" y="1643040"/>
            <a:chExt cx="6599160" cy="4233960"/>
          </a:xfrm>
        </p:grpSpPr>
        <p:pic>
          <p:nvPicPr>
            <p:cNvPr id="521" name="Picture 7" descr="share"/>
            <p:cNvPicPr/>
            <p:nvPr/>
          </p:nvPicPr>
          <p:blipFill>
            <a:blip r:embed="rId1"/>
            <a:stretch/>
          </p:blipFill>
          <p:spPr>
            <a:xfrm>
              <a:off x="1258920" y="1643040"/>
              <a:ext cx="659916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Text Box 8"/>
            <p:cNvSpPr/>
            <p:nvPr/>
          </p:nvSpPr>
          <p:spPr>
            <a:xfrm>
              <a:off x="2566080" y="387828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9"/>
            <p:cNvSpPr/>
            <p:nvPr/>
          </p:nvSpPr>
          <p:spPr>
            <a:xfrm>
              <a:off x="4329720" y="4698360"/>
              <a:ext cx="91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1"/>
            <p:cNvSpPr/>
            <p:nvPr/>
          </p:nvSpPr>
          <p:spPr>
            <a:xfrm>
              <a:off x="6276960" y="3444120"/>
              <a:ext cx="91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2"/>
            <p:cNvSpPr/>
            <p:nvPr/>
          </p:nvSpPr>
          <p:spPr>
            <a:xfrm>
              <a:off x="3417840" y="2190240"/>
              <a:ext cx="18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FESSOR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3"/>
            <p:cNvSpPr/>
            <p:nvPr/>
          </p:nvSpPr>
          <p:spPr>
            <a:xfrm>
              <a:off x="3295800" y="3279600"/>
              <a:ext cx="304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ffff"/>
                  </a:solidFill>
                  <a:latin typeface="Arial"/>
                </a:rPr>
                <a:t>ALUNOS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4"/>
            <p:cNvSpPr/>
            <p:nvPr/>
          </p:nvSpPr>
          <p:spPr>
            <a:xfrm>
              <a:off x="5789880" y="4533480"/>
              <a:ext cx="72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EM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142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AÇÕES PREVISTA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EXECUTADAS E A EXECUTAR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12500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PELO NTE - ST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1º SEMESTR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640" y="1642680"/>
            <a:ext cx="3616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Visita às escolas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Orientação aos PS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859280" y="1643040"/>
            <a:ext cx="3618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dezem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39640" y="1571400"/>
            <a:ext cx="38800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companhamento das atividades desenvolvidas pelos PSTE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informática básica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 Brasil Ponto a Ponto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4788000" y="1571760"/>
            <a:ext cx="361764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a dezemb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 – 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000" y="1571760"/>
            <a:ext cx="3616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s para I Encontro PSTE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4788000" y="1571760"/>
            <a:ext cx="43560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bril – Outub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 em andamento em Nova Andradin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io - Julh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MicroCarla</cp:lastModifiedBy>
  <dcterms:modified xsi:type="dcterms:W3CDTF">2009-07-30T22:48:08Z</dcterms:modified>
  <cp:revision>335</cp:revision>
  <dc:subject/>
  <dc:title>TECNOLOGIAS NA ESCOLA</dc:title>
</cp:coreProperties>
</file>